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232-D3FB-4939-8E8E-5865AAA8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397-1150-49AB-A25F-0F46FE9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11B-4844-46C7-815F-E0F12CF9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E2B-67E9-496D-931C-AF7B12BF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27432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C36-A347-463B-8C0D-1D301B5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0B5-21F9-4E5B-A1A8-0834F208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535-AFD2-45B9-B406-CD3CED24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A34-04AB-4BDA-B8AD-03A015B6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7432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7B9-EF02-4936-B669-907384A1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A23-81A4-431A-9059-2CAF4162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28C-CA2B-4931-B87B-57E9088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038-CF41-49C7-AC15-26D9F53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j0386306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4C1C-E7EF-4D5F-9D29-EE6B61322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j0386306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tabase Concep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ie Rental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600200"/>
          <a:ext cx="8534520" cy="362124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Conan the Barbarian – due 12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Star Wars – due 14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 Wyatt – 123 XYZ Street – Twilight – due 18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Blaise – 789 Main Street – Star Wars – due 20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8"/>
          <p:cNvSpPr/>
          <p:nvPr/>
        </p:nvSpPr>
        <p:spPr>
          <a:xfrm>
            <a:off x="1600200" y="5410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John Blaise just rented a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H="1" flipV="1">
            <a:off x="990360" y="48765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ie Rental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1600200"/>
          <a:ext cx="8534520" cy="327672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Conan the Barbarian – due 12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Star Wars – due 14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 Wyatt – 123 XYZ Street – Twilight – due 18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 Wyatt – 1233 XYYZ Street – Martians Go Home – due 21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8"/>
          <p:cNvSpPr/>
          <p:nvPr/>
        </p:nvSpPr>
        <p:spPr>
          <a:xfrm>
            <a:off x="685800" y="4952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elete Anomaly – John Blaise returned movie: All info for John Blaise is g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sertion Anomaly – I cannot insert anyone’s information until they first rent a mov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Update Anomaly – Anna Wyatt information is different in different field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0"/>
          <p:cNvSpPr/>
          <p:nvPr/>
        </p:nvSpPr>
        <p:spPr>
          <a:xfrm>
            <a:off x="304920" y="3886200"/>
            <a:ext cx="36576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3733920" y="34686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nomaly! Name spelled differently in different row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 flipH="1">
            <a:off x="3276360" y="38862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l Fo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 Forms help to resolve problems with relational databa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the kind of problems that can occu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d to parse contact and movie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uld have anomalies with the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143000"/>
          <a:ext cx="8534520" cy="35244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37"/>
          <p:cNvSpPr/>
          <p:nvPr/>
        </p:nvSpPr>
        <p:spPr>
          <a:xfrm>
            <a:off x="533520" y="4724280"/>
            <a:ext cx="81532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ttribute has only atomic values, and the values of each attribute contains only a single value from that do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What is the key to uniquely identify each row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Do I need the whole key to identify the address?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If John Wyatt rents another movie, how to tell the correct addr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0"/>
          <p:cNvSpPr/>
          <p:nvPr/>
        </p:nvSpPr>
        <p:spPr>
          <a:xfrm>
            <a:off x="3581280" y="3733920"/>
            <a:ext cx="1905120" cy="9903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0880" y="1143000"/>
          <a:ext cx="8534520" cy="34732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b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41"/>
          <p:cNvSpPr/>
          <p:nvPr/>
        </p:nvSpPr>
        <p:spPr>
          <a:xfrm>
            <a:off x="533520" y="4724280"/>
            <a:ext cx="81532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NF: Each attribute has only atomic values, and the values of each attribute contains only a single value from that do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Is Due Date or Movie really related to my name?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What is the correct address for John Wyatt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int: can I assume that the most recent rental date has the current addres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2"/>
          <p:cNvSpPr/>
          <p:nvPr/>
        </p:nvSpPr>
        <p:spPr>
          <a:xfrm>
            <a:off x="3581280" y="3276720"/>
            <a:ext cx="1905120" cy="14475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143000"/>
          <a:ext cx="8305920" cy="354816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650960"/>
                <a:gridCol w="685800"/>
                <a:gridCol w="1816200"/>
                <a:gridCol w="1384200"/>
              </a:tblGrid>
              <a:tr h="56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Ag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b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41"/>
          <p:cNvSpPr/>
          <p:nvPr/>
        </p:nvSpPr>
        <p:spPr>
          <a:xfrm>
            <a:off x="533520" y="4724280"/>
            <a:ext cx="8153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ust be in First Normal Form (1NF), 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its nonkey attributes are dependant on the primary key (example, movie title is not related to my na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What is the key to uniquely identify each row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Do I need the whole key to know the address? The movies rented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Can I add a customer before they rent a movi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4"/>
          <p:cNvSpPr/>
          <p:nvPr/>
        </p:nvSpPr>
        <p:spPr>
          <a:xfrm>
            <a:off x="457200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5"/>
          <p:cNvSpPr/>
          <p:nvPr/>
        </p:nvSpPr>
        <p:spPr>
          <a:xfrm>
            <a:off x="449568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6"/>
          <p:cNvSpPr/>
          <p:nvPr/>
        </p:nvSpPr>
        <p:spPr>
          <a:xfrm>
            <a:off x="4495680" y="2133720"/>
            <a:ext cx="9907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7"/>
          <p:cNvSpPr/>
          <p:nvPr/>
        </p:nvSpPr>
        <p:spPr>
          <a:xfrm>
            <a:off x="45720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8"/>
          <p:cNvSpPr/>
          <p:nvPr/>
        </p:nvSpPr>
        <p:spPr>
          <a:xfrm>
            <a:off x="4800600" y="251460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95880" cy="1218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838080" y="3429000"/>
            <a:ext cx="693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only one entry for each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only one entry for each Mo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ustomer can rent Many Movies. 1:M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ransitive Depend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nonkey columns must be dependent on a candidate k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dependences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 2NF 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 is linked to a Book, and a Book is linked to a Publisher 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ansi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pend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00200" y="403848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1143000"/>
          <a:ext cx="8153640" cy="3548160"/>
        </p:xfrm>
        <a:graphic>
          <a:graphicData uri="http://schemas.openxmlformats.org/drawingml/2006/table">
            <a:tbl>
              <a:tblPr/>
              <a:tblGrid>
                <a:gridCol w="449280"/>
                <a:gridCol w="1346400"/>
                <a:gridCol w="1282680"/>
                <a:gridCol w="1805040"/>
                <a:gridCol w="577800"/>
                <a:gridCol w="1527120"/>
                <a:gridCol w="1165320"/>
              </a:tblGrid>
              <a:tr h="568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Ag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b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63"/>
          <p:cNvSpPr/>
          <p:nvPr/>
        </p:nvSpPr>
        <p:spPr>
          <a:xfrm>
            <a:off x="533520" y="4724280"/>
            <a:ext cx="81532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ust be in Second Normal Form (2NF) AND no Transitive dependen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What is the key to uniquely identify each row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Do I need the whole key to know the address? The movies rented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Can I add a customer before they rent a movi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How can I tell the correct addr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4"/>
          <p:cNvSpPr/>
          <p:nvPr/>
        </p:nvSpPr>
        <p:spPr>
          <a:xfrm>
            <a:off x="495288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95288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6"/>
          <p:cNvSpPr/>
          <p:nvPr/>
        </p:nvSpPr>
        <p:spPr>
          <a:xfrm>
            <a:off x="4952880" y="2209680"/>
            <a:ext cx="8384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7"/>
          <p:cNvSpPr/>
          <p:nvPr/>
        </p:nvSpPr>
        <p:spPr>
          <a:xfrm>
            <a:off x="50292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8"/>
          <p:cNvSpPr/>
          <p:nvPr/>
        </p:nvSpPr>
        <p:spPr>
          <a:xfrm>
            <a:off x="4952880" y="213372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yce-Codd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tudent can be in many cl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teacher can teach many cl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 class may have multiple teach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What is dependant on wha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SID, Class}? {SID, Teacher}? {Class, Teacher}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9"/>
          <p:cNvGraphicFramePr/>
          <p:nvPr/>
        </p:nvGraphicFramePr>
        <p:xfrm>
          <a:off x="1066680" y="3505320"/>
          <a:ext cx="6782040" cy="25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05320"/>
                    <a:ext cx="678204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Databa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 down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 down, but allowing cross connec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 &amp;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 (tables) and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yce-Codd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a Many-to-Many relationshi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ne table for each strong entit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685800" y="4648320"/>
            <a:ext cx="8153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ust be in Third Normal Form (3NF), and EVERY determinant can be a 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Is Class dependant on Student ID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Is Teacher dependant on the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10"/>
          <p:cNvGraphicFramePr/>
          <p:nvPr/>
        </p:nvGraphicFramePr>
        <p:xfrm>
          <a:off x="762120" y="2590920"/>
          <a:ext cx="784836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90920"/>
                    <a:ext cx="784836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yce-Codd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676520" y="1585800"/>
            <a:ext cx="54496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 determines Maj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 also determines Clu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Major x Clubs = rows for each SI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7"/>
          <p:cNvGraphicFramePr/>
          <p:nvPr/>
        </p:nvGraphicFramePr>
        <p:xfrm>
          <a:off x="1676520" y="2971800"/>
          <a:ext cx="50292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50292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value determinants are now a many-to-many relationship between two entit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685800" y="492120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ust be in Boyce-Codd Normal Form (BCNF), and no multi-value determin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7"/>
          <p:cNvGraphicFramePr/>
          <p:nvPr/>
        </p:nvGraphicFramePr>
        <p:xfrm>
          <a:off x="685800" y="2894040"/>
          <a:ext cx="754380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4040"/>
                    <a:ext cx="7543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742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fth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few cases there may be some obscure dependencies. Fo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may also depend on teacher’s vacation schedu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available may depend on dat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lass might require at least 3 students, else it is cancell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in 4NF, and resolve any additional obscure dependenc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main/Key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possible constraint on a relation is a direct consequence of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finition of the Key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finition of each attribute’s doma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, two field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erature [INT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[INT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two values can be added, but the result is meaningl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main/Key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 constrain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erature [TEMPTYPE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[AGETYPE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two values can no longer be add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DBMS is capable of supporting DKN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straints of 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F and DKNF are generally managed by the program’s business logic (code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of Anomal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880" y="1143000"/>
          <a:ext cx="8534520" cy="34732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b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Oval 48"/>
          <p:cNvSpPr/>
          <p:nvPr/>
        </p:nvSpPr>
        <p:spPr>
          <a:xfrm>
            <a:off x="3581280" y="3276720"/>
            <a:ext cx="1905120" cy="14475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9"/>
          <p:cNvSpPr/>
          <p:nvPr/>
        </p:nvSpPr>
        <p:spPr>
          <a:xfrm>
            <a:off x="167652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Update 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380880" y="46483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on Anomaly: If I delete the movie rental for John Blaise, I also delete all of his contact inform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Anomaly: Duplicate data: I only changed the address in one of the r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Anomaly: I cannot add a customer until they first rent a mo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.F. Codd’s Ru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F. Codd is the originator of the relational database mode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d’s original design has undergone additions and minor modifications, but his 12 Rules still form the core of all RDBMS’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Hierarchical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320px-Hierarchical_Model_svg.png"/>
          <p:cNvPicPr/>
          <p:nvPr/>
        </p:nvPicPr>
        <p:blipFill>
          <a:blip r:embed="rId1"/>
          <a:stretch/>
        </p:blipFill>
        <p:spPr>
          <a:xfrm>
            <a:off x="1447920" y="1219320"/>
            <a:ext cx="6095880" cy="34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838080" y="51055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have one root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have 1:M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connect upward/downward to parent/child n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1: The Information Ru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information in a relational database is represented at the logical level in exactly one way – by values in tables (relations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requires that two-dimensional tables (rows and columns) be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ructure used in a relational datab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es some of the controversy of “who cares about rules if my product works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2: Guarenteed Acce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and every datum (atomic value) in a relational database is guaranteed to be logically accessible by resorting to a combination of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Key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3: Consistency of Nul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ll values are missing values (not just blanks or empty strings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ll values are supported for representing missing information in a systemic way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ependent of data ty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 4: Consistent Data Ac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tabase description is represented at the logical level in the same way as ordinary dat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can apply the same relational language as they apply to regular dat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only need to learn one query language – regardless of the data typ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 5: Comprehensive Langu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must be at least one language whose statements are expressed as character strings, supporting al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bounda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6: View Upda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iews that are theoretically updateable are also updatable by the syste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view contains information that can be updated back into the database, the system will be able to handle the updat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ly, if I can read the data, I can also update 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7: Insert, Update, Del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ystem will have the ability to Insert, Update, or Delete multiple rows in a single transac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need to perform separate operations for each row being proces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s 8 &amp; 9: Data Independ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and terminals that access the data are unaffected whenever any changes are made to how the RDBMS internally stores or accesses the dat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and terminals that access the data are unaffected whenever new tables are added to the databa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ables are deleted, it does not affect access to remaining tabl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 10: Integrity Independ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ty constraints specific to a particular relational database must be definable in the relational sublanguage – not in the application program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a minimum, constraint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omponent of a primary key can be Nu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foreign key value in a row, there must exist a matching primary key value from the same domain (referential integrit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 11: Distribution Independ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istributed database is one where the data itself is stored on more than one computer, possibly in separate geographical loc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etheless, to the application, this distribution will be invisible; the application is independent of the database distibu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Network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320px-Network_Model_svg.png"/>
          <p:cNvPicPr/>
          <p:nvPr/>
        </p:nvPicPr>
        <p:blipFill>
          <a:blip r:embed="rId1"/>
          <a:stretch/>
        </p:blipFill>
        <p:spPr>
          <a:xfrm>
            <a:off x="1828800" y="914400"/>
            <a:ext cx="549432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685800" y="54100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Hierarchical, but can create networks to make M:N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2"/>
          <p:cNvCxnSpPr>
            <a:stCxn id="89" idx="0"/>
          </p:cNvCxnSpPr>
          <p:nvPr/>
        </p:nvCxnSpPr>
        <p:spPr>
          <a:xfrm flipV="1">
            <a:off x="4647960" y="4342680"/>
            <a:ext cx="1080" cy="1067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12: Nonsubver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RDBMS has a low-level language, that low-level language CANNOT be used to subvert or bypass the integrity rules or constraints expressed in the higher level languag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: Structured Query Language (SQL) is currently the standard high level langu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SQL Too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SQL Monitor is a command-line t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using the PuTTY tool to get to the command-line at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sandbox.coleman.ed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PMyAdmin is a web-based t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using a web browser by connecting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linuxsandbox.coleman.edu/phpmyadmin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Object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320px-Object-Oriented_Model_svg.png"/>
          <p:cNvPicPr/>
          <p:nvPr/>
        </p:nvPicPr>
        <p:blipFill>
          <a:blip r:embed="rId1"/>
          <a:stretch/>
        </p:blipFill>
        <p:spPr>
          <a:xfrm>
            <a:off x="1676520" y="990720"/>
            <a:ext cx="5790960" cy="4289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143000" y="5257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erited objects of one class cannot connect with inherited objects of a different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Relational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280px-Relational_Model_svg.png"/>
          <p:cNvPicPr/>
          <p:nvPr/>
        </p:nvPicPr>
        <p:blipFill>
          <a:blip r:embed="rId1"/>
          <a:stretch/>
        </p:blipFill>
        <p:spPr>
          <a:xfrm>
            <a:off x="2286000" y="990720"/>
            <a:ext cx="4572000" cy="4539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685800" y="5410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(Tables) contain Tuples (Row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relate to other Ent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ational Te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520" y="144756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Table is an “Entity”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 Entity contain “Attributes” (or Columns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ch data entry in a table is a “Tuple” (or Row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ch tuple has the same Attribut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ch Tuple has unique data (the “Key”), to distinguish it from other tupl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s relate to each other via “Relationships”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antic Object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294920"/>
            <a:ext cx="5029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way or representing data from a User’s viewpoi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 of the database model itsel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Movie Rental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stomer has information (Name, Contact Inf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stomer can rent zero, 1, or many movies (0 – 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048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ie Rental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600200"/>
          <a:ext cx="8534520" cy="271620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Conan the Barbarian – due 12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Star Wars – due 14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 Wyatt – 123 XYZ Street – Twilight – due 18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21"/>
          <p:cNvSpPr/>
          <p:nvPr/>
        </p:nvSpPr>
        <p:spPr>
          <a:xfrm>
            <a:off x="762120" y="457200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’s contact information and movie rental information is all contained in a single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entals require duplicating the Customer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fields (like Address) have to be parse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14:26:44Z</dcterms:created>
  <dc:creator>John Wyatt</dc:creator>
  <dc:description/>
  <dc:language>en-US</dc:language>
  <cp:lastModifiedBy>john.wyatt</cp:lastModifiedBy>
  <dcterms:modified xsi:type="dcterms:W3CDTF">2014-07-29T00:03:35Z</dcterms:modified>
  <cp:revision>82</cp:revision>
  <dc:subject/>
  <dc:title>Database Concepts</dc:title>
</cp:coreProperties>
</file>